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gif" ContentType="image/gif"/>
  <Override PartName="/ppt/media/image16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2D66AA-4D46-4A2E-AC27-EE17930104A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32C3BB-F3B3-4981-83E9-195D9030D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F11F1-3370-4A9F-A96E-2278E41007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14912E-66AB-42FC-9019-5E2234558C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ABF9C-D7AD-460D-A7CD-8759CA7C31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96B9FE-D6E8-4488-BBEE-7722E583ED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322388-FA9A-48CC-897C-5F63FBB7733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41F870-A466-4257-8677-01EACDF610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F2B7-5E13-4BA1-A1C3-B6B6C7D8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3217-6602-4349-B2CE-03B7D082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DA81-2B63-4D83-9E37-DA19E5DF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A31C-DD89-466A-8C70-463CCD274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9412-C6D3-495A-9127-1EE9C0ED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7AEC-B6E0-4560-AA01-C94E92B5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D637-8314-4961-85EE-3A6C94EA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3A0B-BCCD-4E10-81FD-705B4CD5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7FC5-A12B-43C5-AEF0-350DBB52F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65DC-FA56-4EA0-BAFB-E6272B1A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0316-80F8-479F-9987-3BDFA411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E61C-E134-4A2C-9F3E-97916D97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356633-D5E6-40FD-AE06-D847B1A32976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8E3A7-0350-449F-BB95-5625DF6E5A5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apter 2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Chemistry of Lif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A Basic Chemistr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omic Structu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st of the atom is empty space between the nucleus and the electrons of ato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opposing forces of the protons and the electrons hold the atom togeth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om par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Content Placeholder 3" descr="atom.jpg"/>
          <p:cNvPicPr/>
          <p:nvPr/>
        </p:nvPicPr>
        <p:blipFill>
          <a:blip r:embed="rId1"/>
          <a:srcRect l="-6795" t="0" r="-679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omic Structu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ctrons = Proton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sitive and negative charges cancel each other making the atom charge zero.  This is for ATOMS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 proton and 1 electron then this atom is wha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dro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omic Number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# of protons in the nucleu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l atoms of a particular element have the same number of proto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f the proton number changes, then the actual element changes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04920" y="274320"/>
            <a:ext cx="8686800" cy="65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tom: smallest unit of an element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ade of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= Protons: + charged particl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 nucleu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= Neutrons: neutral particle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 nucleu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= Electrons: - charged particl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round nucleus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rmally atoms are neutral: p = e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on: a + or - charged atom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omic Mas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s the mass of the protons and the neutrons togeth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3" descr="22844469.jpg"/>
          <p:cNvPicPr/>
          <p:nvPr/>
        </p:nvPicPr>
        <p:blipFill>
          <a:blip r:embed="rId1"/>
          <a:stretch/>
        </p:blipFill>
        <p:spPr>
          <a:xfrm>
            <a:off x="1066680" y="3465360"/>
            <a:ext cx="2438640" cy="2660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arbontile.jpg"/>
          <p:cNvPicPr/>
          <p:nvPr/>
        </p:nvPicPr>
        <p:blipFill>
          <a:blip r:embed="rId2"/>
          <a:stretch/>
        </p:blipFill>
        <p:spPr>
          <a:xfrm>
            <a:off x="5486400" y="3465360"/>
            <a:ext cx="2292480" cy="29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emical Bond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ost atoms are unstable (and lonely) and want to bond with another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atom is only stable when the outer most shell of electrons is ful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lectron shell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first orbit or shell can only hold two electro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econd shell can hold 8 electron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third shell can hold 18 electrons, but is stable with only 8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ach shell after that holds more and more electrons, but all act full with eigh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lectron shel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6" name="Content Placeholder 3" descr="electshells.gif"/>
          <p:cNvPicPr/>
          <p:nvPr/>
        </p:nvPicPr>
        <p:blipFill>
          <a:blip r:embed="rId1"/>
          <a:srcRect l="-50605" t="0" r="-50605" b="0"/>
          <a:stretch/>
        </p:blipFill>
        <p:spPr>
          <a:xfrm>
            <a:off x="2286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ssential Elements of Lif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xygen O  65% of body we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rbon  C  18% of body we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drogen  H  10% of body we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itrogen  N  3% of body we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lcium  Ca  2% of body weigh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2" descr="Photo: Cave of Crystals, Mexico"/>
          <p:cNvPicPr/>
          <p:nvPr/>
        </p:nvPicPr>
        <p:blipFill>
          <a:blip r:embed="rId1"/>
          <a:stretch/>
        </p:blipFill>
        <p:spPr>
          <a:xfrm>
            <a:off x="0" y="-38160"/>
            <a:ext cx="9601200" cy="72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ssential Elements of Lif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ess common, but still essential elem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hosphorus 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tassium K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lfur  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lorine  C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dium  N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gnesium  M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race Elem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pper  C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luorine  F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ron   F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Iodine   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Zinc  Z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lements of Lif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574800" y="272520"/>
            <a:ext cx="5111640" cy="58532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2">
            <a:lum contrast="24000"/>
          </a:blip>
          <a:srcRect l="0" t="0" r="4223" b="0"/>
          <a:stretch/>
        </p:blipFill>
        <p:spPr>
          <a:xfrm>
            <a:off x="3962520" y="272880"/>
            <a:ext cx="492912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element is this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8" name="Content Placeholder 3" descr="carbon atom.jpeg"/>
          <p:cNvPicPr/>
          <p:nvPr/>
        </p:nvPicPr>
        <p:blipFill>
          <a:blip r:embed="rId1"/>
          <a:srcRect l="-25748" t="0" r="-25748" b="0"/>
          <a:stretch/>
        </p:blipFill>
        <p:spPr>
          <a:xfrm>
            <a:off x="-380880" y="1600200"/>
            <a:ext cx="92836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rbon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0" name="Content Placeholder 3" descr="element-carbon.jpg"/>
          <p:cNvPicPr/>
          <p:nvPr/>
        </p:nvPicPr>
        <p:blipFill>
          <a:blip r:embed="rId1"/>
          <a:srcRect l="-39199" t="0" r="-39199" b="0"/>
          <a:stretch/>
        </p:blipFill>
        <p:spPr>
          <a:xfrm>
            <a:off x="457200" y="190512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Oxyge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Content Placeholder 3" descr="oxygen.jpg"/>
          <p:cNvPicPr/>
          <p:nvPr/>
        </p:nvPicPr>
        <p:blipFill>
          <a:blip r:embed="rId1"/>
          <a:srcRect l="-34977" t="0" r="-3497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element is this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Content Placeholder 3" descr="nitrogen.gif"/>
          <p:cNvPicPr/>
          <p:nvPr/>
        </p:nvPicPr>
        <p:blipFill>
          <a:blip r:embed="rId1"/>
          <a:srcRect l="-10795" t="0" r="-1079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element is this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" name="Content Placeholder 3" descr="calcium.gif"/>
          <p:cNvPicPr/>
          <p:nvPr/>
        </p:nvPicPr>
        <p:blipFill>
          <a:blip r:embed="rId1"/>
          <a:srcRect l="-40251" t="0" r="-40251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What element is this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8" name="Content Placeholder 3" descr="hydrogen.jpg"/>
          <p:cNvPicPr/>
          <p:nvPr/>
        </p:nvPicPr>
        <p:blipFill>
          <a:blip r:embed="rId1"/>
          <a:srcRect l="-18185" t="0" r="-18185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oble Gases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oms with naturally full outer shells, so they are very stab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elium, neon, argon, and etc that are located on the right side of the tab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ave of Crystal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nd 1000 feet deep in Mexic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ose are ice cooling sui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rystals are made of Gypsu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emically activ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oms that give and take or share electrons in order to become more stab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onic Bond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lorine is a non-metal.  If chlorine gains an electron is becomes stab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odium is a metal.  If Sodium loses an electron it becomes stabl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15360" indent="-315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combination forms a new substance – table salt.  NaCl  It is more stable than the two elements that formed i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onic bond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6" name="Content Placeholder 3" descr="bonding_types-nacl.gif"/>
          <p:cNvPicPr/>
          <p:nvPr/>
        </p:nvPicPr>
        <p:blipFill>
          <a:blip r:embed="rId1"/>
          <a:srcRect l="0" t="-5604" r="0" b="-560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9" name="Picture 2" descr="http://www.firehouse.com/training/hazmat/chemist/2002/1_chemist1.jpg"/>
          <p:cNvPicPr/>
          <p:nvPr/>
        </p:nvPicPr>
        <p:blipFill>
          <a:blip r:embed="rId1"/>
          <a:stretch/>
        </p:blipFill>
        <p:spPr>
          <a:xfrm>
            <a:off x="685800" y="274680"/>
            <a:ext cx="816768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onic Bonding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atom that loses an electron becomes a positive 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tom that gains an electron becomes a negative 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a loses an electron so it becomes a positive char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 gains an electron so it becomes a negative charg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Ionic Bon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positive ion Na is attracted to the negative ion Cl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is an ionic bond, because it is the attraction of two ions!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valent Bond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haring electron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” means to share and they are sharing the valence.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ter,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 exampl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ydrogen shares its electron with Oxyge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. 41 in book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ery strong bond!!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valent Bond in wa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Water molecule diagram"/>
          <p:cNvPicPr/>
          <p:nvPr/>
        </p:nvPicPr>
        <p:blipFill>
          <a:blip r:embed="rId2"/>
          <a:stretch/>
        </p:blipFill>
        <p:spPr>
          <a:xfrm>
            <a:off x="2362320" y="1600200"/>
            <a:ext cx="457200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ompound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ubstance made of two or more elemen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amples:  CO,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, N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lec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mallest unit of a compoun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t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Matter is anything that occupies space and has mas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What are the three states of matter?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Ga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olid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Liquid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ach state of matter is due to the varying amounts of energy possessed by that matter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lecular Formula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lucose is C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1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Calibri"/>
              </a:rPr>
              <a:t>6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Molecular Formul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ructural Formul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5" name="Picture 3" descr="glucose.jpeg"/>
          <p:cNvPicPr/>
          <p:nvPr/>
        </p:nvPicPr>
        <p:blipFill>
          <a:blip r:embed="rId1"/>
          <a:stretch/>
        </p:blipFill>
        <p:spPr>
          <a:xfrm>
            <a:off x="3124080" y="2971800"/>
            <a:ext cx="3327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hemical vs. Physical Chang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hemical Chang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efinite propor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ew compounds form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ergy is involve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ysical change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hange in stat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ppearanc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bination w/ other substanc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ixture – 2 substances combine w/o chemical bonding.  Sand and water ex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nerg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other component to the physical univers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nergy is the ability to do work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wo Type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Kinetic is the energy of motion ex. heat, light, move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Potential is stored energy waiting to be kinetic energy.  Battery or an object about to fall off a ledg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nerg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" name="Content Placeholder 3" descr="potencial-and-kinetic.bmp"/>
          <p:cNvPicPr/>
          <p:nvPr/>
        </p:nvPicPr>
        <p:blipFill>
          <a:blip r:embed="rId1"/>
          <a:srcRect l="-17070" t="0" r="-17070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Energy Converted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s you see potential energy can be converted or changed into kinetic.  The bike rolling down the hill is that conversio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ential                            Kinetic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Kinetic energy is also converted into potential (stored) energy in plants.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etic                                Potentia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Right Arrow 3"/>
          <p:cNvSpPr/>
          <p:nvPr/>
        </p:nvSpPr>
        <p:spPr>
          <a:xfrm>
            <a:off x="1828800" y="5562720"/>
            <a:ext cx="2362320" cy="304560"/>
          </a:xfrm>
          <a:prstGeom prst="rightArrow">
            <a:avLst>
              <a:gd name="adj1" fmla="val 50000"/>
              <a:gd name="adj2" fmla="val 50058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ight Arrow 4"/>
          <p:cNvSpPr/>
          <p:nvPr/>
        </p:nvSpPr>
        <p:spPr>
          <a:xfrm>
            <a:off x="2057400" y="3352680"/>
            <a:ext cx="2362320" cy="304920"/>
          </a:xfrm>
          <a:prstGeom prst="rightArrow">
            <a:avLst>
              <a:gd name="adj1" fmla="val 50000"/>
              <a:gd name="adj2" fmla="val 49999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rmodynamic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Law – Energy is neither created nor destroyed.  It can change for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Law -  some energy is unusable.  entrop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Kinetic Energy of a Molec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amount of thermal energy determines how fast its molecules move and thus its physical state.  Gas, liquid or soli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tential Energy of a Molecu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otential energy of a molecule:   stored in its chemical bonds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 kinds of chemical rx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1) Endothermic rxn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840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quires or absorbs heat energy    A + B + energy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C + 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840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emember what Endo mean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840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2) Exothermic rxn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iberates heat energy A + B </a:t>
            </a: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energy + C + D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Remember what exo means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cids and Bas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hen dissolved in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id: releases hydrogen ions (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Base: releases hydroxyl ions (OH-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hen an acid &amp; base are put togeth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ey neutralize each other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o make a salt &amp;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pH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acidity or alkalinity of a sol’n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ower of hydrogen”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&amp; external pH of living thing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s important…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5" name="Picture 3" descr="ph"/>
          <p:cNvPicPr/>
          <p:nvPr/>
        </p:nvPicPr>
        <p:blipFill>
          <a:blip r:embed="rId1"/>
          <a:stretch/>
        </p:blipFill>
        <p:spPr>
          <a:xfrm>
            <a:off x="0" y="3011400"/>
            <a:ext cx="8991720" cy="3029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atter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109 known elemen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ments are pure substances that cannot be furher broken down into simpler substanc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x. keep cutting gold in half over and over again until the piece would no longer be gold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pH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* blood p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* brain pH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* stomach enzym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* acids can harm lung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*  acid rai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 clear lake w/ no normal lif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 deformed fish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- diseased pla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Buffer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will combine with excess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or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Verdan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pecies Survivability in acidic environment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9" name="Content Placeholder 3" descr="waterspecies.gif"/>
          <p:cNvPicPr/>
          <p:nvPr/>
        </p:nvPicPr>
        <p:blipFill>
          <a:blip r:embed="rId1"/>
          <a:srcRect l="-9173" t="0" r="-9173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57200" y="228600"/>
            <a:ext cx="8686800" cy="60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diffusion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mvt of molec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from an area of [high]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to an area of [low]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equilibrium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equal []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5" descr="Diffusion_animation"/>
          <p:cNvPicPr/>
          <p:nvPr/>
        </p:nvPicPr>
        <p:blipFill>
          <a:blip r:embed="rId1"/>
          <a:stretch/>
        </p:blipFill>
        <p:spPr>
          <a:xfrm>
            <a:off x="4419720" y="1828800"/>
            <a:ext cx="3809880" cy="3276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diffusion-animated"/>
          <p:cNvPicPr/>
          <p:nvPr/>
        </p:nvPicPr>
        <p:blipFill>
          <a:blip r:embed="rId2"/>
          <a:stretch/>
        </p:blipFill>
        <p:spPr>
          <a:xfrm>
            <a:off x="533520" y="1758960"/>
            <a:ext cx="342900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457200" y="228600"/>
            <a:ext cx="8686800" cy="51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osmosis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iffusion of water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through a semipermeable membra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Diffusion pressure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the pressure for diffusion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     to occu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iffusion will happen faster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* the greater the difference in []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* As heat increas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6" descr="400px-Diffusion"/>
          <p:cNvPicPr/>
          <p:nvPr/>
        </p:nvPicPr>
        <p:blipFill>
          <a:blip r:embed="rId1"/>
          <a:stretch/>
        </p:blipFill>
        <p:spPr>
          <a:xfrm>
            <a:off x="2133720" y="4114800"/>
            <a:ext cx="53337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609480" y="457200"/>
            <a:ext cx="8686800" cy="84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osmosis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diffusion of 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through a semipermeable membran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membrane is only permeable to H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the correct solute (dissolved substance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in the cell is critica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457200" y="228600"/>
            <a:ext cx="8686800" cy="10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ome rxn occur immediatel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x: Na + Cl </a:t>
            </a:r>
            <a:r>
              <a:rPr b="1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NaC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ome rxn need energy to start the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activation energy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nergy needed to start a rx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Catalyst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ffect the rate of rx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ut are not changed in the rx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Enzymes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our body’s catalysts,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nergy is released in small usable amou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57200" y="228600"/>
            <a:ext cx="8686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Activation"/>
          <p:cNvPicPr/>
          <p:nvPr/>
        </p:nvPicPr>
        <p:blipFill>
          <a:blip r:embed="rId1"/>
          <a:stretch/>
        </p:blipFill>
        <p:spPr>
          <a:xfrm>
            <a:off x="1447920" y="380880"/>
            <a:ext cx="611496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609480" y="380880"/>
            <a:ext cx="8686800" cy="98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solutions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: homogeneous mix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ex: sugar water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solute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: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dissolved substance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solvent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what the solute is dissolved 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water is the universal solven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suspensions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articles do not dissolve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 liquid mixture that separat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om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mallest unit of an element that still is that element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name comes from Greek to mean indivisible.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eriodic Table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 arrangement of the elements according to atomic structure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next slide shows the periodic table of element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4" name="Content Placeholder 3" descr="periodic_table1.gif"/>
          <p:cNvPicPr/>
          <p:nvPr/>
        </p:nvPicPr>
        <p:blipFill>
          <a:blip r:embed="rId1"/>
          <a:srcRect l="-9602" t="0" r="-9602" b="0"/>
          <a:stretch/>
        </p:blipFill>
        <p:spPr>
          <a:xfrm>
            <a:off x="-838080" y="274680"/>
            <a:ext cx="108075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Atomic Structu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atom is like the solar system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Nucleus has neutrons (no charge) and the protons (positive charge)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ectrons (negative charge) constantly circles the nucleus within orbits at varying distanc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09:57:06Z</dcterms:created>
  <dc:creator>Jason Cobb</dc:creator>
  <dc:description/>
  <dc:language>en-US</dc:language>
  <cp:lastModifiedBy>jcobb</cp:lastModifiedBy>
  <dcterms:modified xsi:type="dcterms:W3CDTF">2012-09-18T18:50:50Z</dcterms:modified>
  <cp:revision>22</cp:revision>
  <dc:subject/>
  <dc:title>Chapter 2 </dc:title>
</cp:coreProperties>
</file>